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0.wmf" ContentType="image/x-wmf"/>
  <Override PartName="/ppt/media/image11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219320"/>
            <a:ext cx="8001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6280" y="4005360"/>
            <a:ext cx="8001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21932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21932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400536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5960" y="400536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21932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71680" y="121932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77080" y="121932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6280" y="400536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71680" y="400536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77080" y="400536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C46C-9470-4AEE-A268-92B6B4A2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6628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1494-9853-4C30-8CEF-47ECC845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91CB-17CF-4A2D-907C-7DFBB119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19320"/>
            <a:ext cx="3904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960" y="1219320"/>
            <a:ext cx="3904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91D3-94A2-4C0B-B491-2CF889A7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4D00-295C-4EF6-ACDF-6FF982F1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4200" y="30456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B2F6-F646-4CBD-A8D9-176FBD7C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21932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219320"/>
            <a:ext cx="3904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6280" y="400536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D9EA-EAA7-4037-87D0-B06D5CF9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6628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219320"/>
            <a:ext cx="3904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21932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960" y="400536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AD8B-A70E-4014-8C44-0533B280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21932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21932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4005360"/>
            <a:ext cx="8001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AB41-80D9-485C-BAC1-BA6441A3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219320"/>
            <a:ext cx="8001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6280" y="4005360"/>
            <a:ext cx="8001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0B55-CD56-42F9-9F9B-6F83C639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21932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21932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400536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960" y="400536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C47A-FF9A-4459-8BA7-C6724427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21932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1680" y="121932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7080" y="121932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6280" y="400536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1680" y="400536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7080" y="400536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495B-A393-44D5-9802-3E58A2A9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6628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219320"/>
            <a:ext cx="3904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5960" y="1219320"/>
            <a:ext cx="3904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74200" y="30456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21932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219320"/>
            <a:ext cx="3904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66280" y="400536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219320"/>
            <a:ext cx="3904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21932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5960" y="400536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21932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21932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6280" y="4005360"/>
            <a:ext cx="8001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3356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6294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A804-5063-487B-ADD4-7594ABCAEFD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e-Processing Filter ASIC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560" y="3429000"/>
            <a:ext cx="7010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eff Shaf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ming Zho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 42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LSI Design 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ll 20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43440" y="2805120"/>
            <a:ext cx="36910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6-bit Carry Look-ahead Add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 4-bit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rry-look-ahead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LA) add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puts are 16-bi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lues A and 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rry Rippl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om modul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mo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800600" y="1523880"/>
            <a:ext cx="1905120" cy="4819680"/>
            <a:chOff x="4800600" y="1523880"/>
            <a:chExt cx="1905120" cy="4819680"/>
          </a:xfrm>
        </p:grpSpPr>
        <p:grpSp>
          <p:nvGrpSpPr>
            <p:cNvPr id="110" name=""/>
            <p:cNvGrpSpPr/>
            <p:nvPr/>
          </p:nvGrpSpPr>
          <p:grpSpPr>
            <a:xfrm>
              <a:off x="4800600" y="1523880"/>
              <a:ext cx="1905120" cy="1058760"/>
              <a:chOff x="4800600" y="1523880"/>
              <a:chExt cx="1905120" cy="1058760"/>
            </a:xfrm>
          </p:grpSpPr>
          <p:sp>
            <p:nvSpPr>
              <p:cNvPr id="111" name=""/>
              <p:cNvSpPr/>
              <p:nvPr/>
            </p:nvSpPr>
            <p:spPr>
              <a:xfrm>
                <a:off x="5127480" y="1657440"/>
                <a:ext cx="1190880" cy="92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889520" y="1714320"/>
                <a:ext cx="237960" cy="1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318360" y="2467080"/>
                <a:ext cx="237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800600" y="1523880"/>
                <a:ext cx="192240" cy="19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Verdana"/>
                  </a:rPr>
                  <a:t>i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365880" y="2279520"/>
                <a:ext cx="339840" cy="19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Verdana"/>
                  </a:rPr>
                  <a:t>ou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889520" y="1830240"/>
                <a:ext cx="23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889520" y="1946160"/>
                <a:ext cx="23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889520" y="2178000"/>
                <a:ext cx="237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887360" y="1965240"/>
                <a:ext cx="29268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318360" y="1830240"/>
                <a:ext cx="23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318360" y="1946160"/>
                <a:ext cx="237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318360" y="2178000"/>
                <a:ext cx="237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316200" y="1965240"/>
                <a:ext cx="29268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257800" y="1971720"/>
                <a:ext cx="882720" cy="20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" tIns="9000" bIns="9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4-bit CL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4800600" y="2468520"/>
              <a:ext cx="1905120" cy="3875040"/>
              <a:chOff x="4800600" y="2468520"/>
              <a:chExt cx="1905120" cy="38750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4800600" y="2773440"/>
                <a:ext cx="1905120" cy="1058400"/>
                <a:chOff x="4800600" y="2773440"/>
                <a:chExt cx="1905120" cy="10584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127480" y="2906280"/>
                  <a:ext cx="1190880" cy="925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889520" y="2964600"/>
                  <a:ext cx="2379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318360" y="3716640"/>
                  <a:ext cx="2379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800600" y="2773440"/>
                  <a:ext cx="192240" cy="19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" rIns="9000" tIns="9000" bIns="9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Verdana"/>
                    </a:rPr>
                    <a:t>i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365880" y="3528360"/>
                  <a:ext cx="339840" cy="19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" rIns="9000" tIns="9000" bIns="9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Verdana"/>
                    </a:rPr>
                    <a:t>ou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889520" y="3079800"/>
                  <a:ext cx="2379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89520" y="3195720"/>
                  <a:ext cx="2379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9520" y="3427200"/>
                  <a:ext cx="2379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887360" y="3214440"/>
                  <a:ext cx="292680" cy="21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" rIns="9000" tIns="9000" bIns="9000" anchor="t" vert="eaVer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18360" y="3079800"/>
                  <a:ext cx="2379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318360" y="3195720"/>
                  <a:ext cx="2379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318360" y="3427200"/>
                  <a:ext cx="2379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316200" y="3214440"/>
                  <a:ext cx="292680" cy="21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" rIns="9000" tIns="9000" bIns="9000" anchor="t" vert="eaVer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257800" y="3220200"/>
                  <a:ext cx="882720" cy="20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" tIns="9000" bIns="90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4-bit CL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800600" y="4022640"/>
                <a:ext cx="1905120" cy="1058400"/>
                <a:chOff x="4800600" y="4022640"/>
                <a:chExt cx="1905120" cy="105840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5127480" y="4155480"/>
                  <a:ext cx="1190880" cy="925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89520" y="4213800"/>
                  <a:ext cx="2379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318360" y="4965840"/>
                  <a:ext cx="2379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800600" y="4022640"/>
                  <a:ext cx="192240" cy="19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" rIns="9000" tIns="9000" bIns="9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Verdana"/>
                    </a:rPr>
                    <a:t>i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365880" y="4777560"/>
                  <a:ext cx="339840" cy="19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" rIns="9000" tIns="9000" bIns="9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Verdana"/>
                    </a:rPr>
                    <a:t>ou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889520" y="4329000"/>
                  <a:ext cx="2379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889520" y="4444920"/>
                  <a:ext cx="2379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889520" y="4676400"/>
                  <a:ext cx="2379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887360" y="4463640"/>
                  <a:ext cx="292680" cy="21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" rIns="9000" tIns="9000" bIns="9000" anchor="t" vert="eaVer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318360" y="4329000"/>
                  <a:ext cx="2379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318360" y="4444920"/>
                  <a:ext cx="2379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318360" y="4676400"/>
                  <a:ext cx="2379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316200" y="4463640"/>
                  <a:ext cx="292680" cy="21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" rIns="9000" tIns="9000" bIns="9000" anchor="t" vert="eaVer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257800" y="4469400"/>
                  <a:ext cx="882720" cy="20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" tIns="9000" bIns="90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4-bit CL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4800600" y="5284800"/>
                <a:ext cx="192240" cy="19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Verdana"/>
                  </a:rPr>
                  <a:t>i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4887360" y="5418000"/>
                <a:ext cx="1818360" cy="925560"/>
                <a:chOff x="4887360" y="5418000"/>
                <a:chExt cx="1818360" cy="9255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5127480" y="5418000"/>
                  <a:ext cx="1190880" cy="925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889520" y="5475240"/>
                  <a:ext cx="2379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318360" y="6227640"/>
                  <a:ext cx="237960" cy="18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365880" y="6040440"/>
                  <a:ext cx="339840" cy="19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" rIns="9000" tIns="9000" bIns="90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C</a:t>
                  </a:r>
                  <a:r>
                    <a:rPr b="0" lang="en-US" sz="1000" spc="-1" strike="noStrike" baseline="-25000">
                      <a:solidFill>
                        <a:srgbClr val="000000"/>
                      </a:solidFill>
                      <a:latin typeface="Verdana"/>
                    </a:rPr>
                    <a:t>ou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889520" y="5591160"/>
                  <a:ext cx="2379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889520" y="5707080"/>
                  <a:ext cx="2379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889520" y="5938920"/>
                  <a:ext cx="2379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887360" y="5726160"/>
                  <a:ext cx="292680" cy="21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" rIns="9000" tIns="9000" bIns="9000" anchor="t" vert="eaVer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318360" y="5591160"/>
                  <a:ext cx="2379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318360" y="5707080"/>
                  <a:ext cx="2379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318360" y="5938920"/>
                  <a:ext cx="2379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316200" y="5726160"/>
                  <a:ext cx="292680" cy="21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" rIns="9000" tIns="9000" bIns="9000" anchor="t" vert="eaVer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257800" y="5732280"/>
                  <a:ext cx="882720" cy="20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" tIns="9000" bIns="90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4-bit CL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71" name=""/>
              <p:cNvCxnSpPr>
                <a:stCxn id="113" idx="0"/>
                <a:endCxn id="128" idx="0"/>
              </p:cNvCxnSpPr>
              <p:nvPr/>
            </p:nvCxnSpPr>
            <p:spPr>
              <a:xfrm rot="5400000">
                <a:off x="5474520" y="1882800"/>
                <a:ext cx="496080" cy="1667520"/>
              </a:xfrm>
              <a:prstGeom prst="bentConnector3">
                <a:avLst>
                  <a:gd name="adj1" fmla="val 49963"/>
                </a:avLst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72" name=""/>
              <p:cNvCxnSpPr/>
              <p:nvPr/>
            </p:nvCxnSpPr>
            <p:spPr>
              <a:xfrm rot="5400000">
                <a:off x="5466960" y="3147840"/>
                <a:ext cx="495720" cy="1667520"/>
              </a:xfrm>
              <a:prstGeom prst="bentConnector3">
                <a:avLst>
                  <a:gd name="adj1" fmla="val 50000"/>
                </a:avLst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73" name=""/>
              <p:cNvCxnSpPr/>
              <p:nvPr/>
            </p:nvCxnSpPr>
            <p:spPr>
              <a:xfrm rot="5400000">
                <a:off x="5466600" y="4381560"/>
                <a:ext cx="496080" cy="1667520"/>
              </a:xfrm>
              <a:prstGeom prst="bentConnector3">
                <a:avLst>
                  <a:gd name="adj1" fmla="val 49963"/>
                </a:avLst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</p:grpSp>
      <p:pic>
        <p:nvPicPr>
          <p:cNvPr id="174" name="" descr=""/>
          <p:cNvPicPr/>
          <p:nvPr/>
        </p:nvPicPr>
        <p:blipFill>
          <a:blip r:embed="rId2"/>
          <a:srcRect l="4891" t="809" r="3970" b="1119"/>
          <a:stretch/>
        </p:blipFill>
        <p:spPr>
          <a:xfrm>
            <a:off x="6891480" y="1413000"/>
            <a:ext cx="2043000" cy="500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2-bit Multipli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square version of the 12x12 array multiplier is implement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120 full adder, 12 half adder and 144 AND ga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orst-case delay is 25 times the worse-case adder dela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rcRect l="1215" t="4058" r="4746" b="3780"/>
          <a:stretch/>
        </p:blipFill>
        <p:spPr>
          <a:xfrm>
            <a:off x="304920" y="4191120"/>
            <a:ext cx="8305560" cy="226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ell Hierarchy : Full Chi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d Fram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ad VD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ad GN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ad InOu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ad FC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r Filter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lock Streng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IFO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vance Contro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lip-Flop R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lip-Flo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utiplier 12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dder 16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lf Add 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lf Add 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O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 Uni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Overflow Detec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atch (1x6, 1x10, 1x12, 1x16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ux (2x11, 2x16, 4x6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loorplan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3000</a:t>
            </a:r>
            <a:r>
              <a:rPr b="0" lang="el-GR" sz="3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x 3000</a:t>
            </a:r>
            <a:r>
              <a:rPr b="0" lang="el-GR" sz="3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0674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inal Chip Desig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600200" y="1219320"/>
            <a:ext cx="5486400" cy="53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formance Analys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6-bit Add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ystal: 13.3n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spice: 5.8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=FFFF, B=0001, Cin=0,measure Cout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2-bit Multipli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ystal: 17.2n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spice: 7.5n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=FFF, B=FFF, measure Pin13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1-tap FI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1 *’s, 20 +’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tal computation &lt; 0.5us (&gt;500k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dicted clock rate: 35MHz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st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6 Debug Outputs + 2 Control Inpu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0: Output latch (5: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: ROM output (5: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: FIFO output (9:4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: Overflow (5) + Control State (0:4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pring Testing Requir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-bit A/D converter with signal li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lements FIR Fil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1 tap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 filter sets stored in PLA RO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que Featur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ircular data FIF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flow avoidance and dete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ultiplier and accumula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lements FIR Fil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1 Tap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 Filter Sets Stored in RO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-bit I/O, Two’s Comple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jor Component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O (10 wide, 21 deep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O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2-bit Multipli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6-bit Add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ilter Desig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640" y="1219320"/>
            <a:ext cx="80438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-tap FIR defined b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굴림"/>
              </a:rPr>
              <a:t>Linear phase-shift FIR fil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굴림"/>
              </a:rPr>
              <a:t>Symmetric set of coeffici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굴림"/>
              </a:rPr>
              <a:t>Advantag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굴림"/>
              </a:rPr>
              <a:t>Phase shift linearly with frequen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굴림"/>
              </a:rPr>
              <a:t>Overall distortion is limi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362320" y="1828800"/>
                <a:ext cx="27432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362320" y="3962520"/>
                <a:ext cx="44956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ilter Design in Matlab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 Fil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1 = fir1(20,0.45,'low'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Quantizati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[0,0,63,63,1,1,61,59,2,19,28,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19,2,59,61,1,1,63,63,0,0]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2 = fir1(20,0.55,'high'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3 = fir1(20, [0.23 0.77],'stop'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4 = fir1(20, [0.25 0.65]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 = conv (x, h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ystem Diagra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66680" y="1219320"/>
            <a:ext cx="701064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iming Diagra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40088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LA : Control Uni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330960" y="1866960"/>
            <a:ext cx="2584440" cy="377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28600" y="1752480"/>
            <a:ext cx="6019920" cy="40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LA : RO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526080" y="1219320"/>
            <a:ext cx="246564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52280" y="1274760"/>
            <a:ext cx="624852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ircular FIF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1 elements dee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 bits wi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8600" y="3243240"/>
            <a:ext cx="8305920" cy="315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477120" y="1219320"/>
            <a:ext cx="2387520" cy="4190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ff Shafer</cp:lastModifiedBy>
  <dcterms:modified xsi:type="dcterms:W3CDTF">2004-11-29T22:38:16Z</dcterms:modified>
  <cp:revision>65</cp:revision>
  <dc:subject/>
  <dc:title>PowerPoint Presentation</dc:title>
</cp:coreProperties>
</file>